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83B99F-F495-4B3F-8125-C5CB2B322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C7F9A0-2FD2-4D92-97ED-D841D2B0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31280" y="418680"/>
            <a:ext cx="76964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853440"/>
            <a:ext cx="7718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412160" y="169236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412160" y="3853440"/>
            <a:ext cx="376632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6684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676480" y="169236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6684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676480" y="3853440"/>
            <a:ext cx="2485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0" y="636264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6" descr="bubbles alb"/>
          <p:cNvPicPr/>
          <p:nvPr/>
        </p:nvPicPr>
        <p:blipFill>
          <a:blip r:embed="rId2"/>
          <a:srcRect l="0" t="9945" r="0" b="0"/>
          <a:stretch/>
        </p:blipFill>
        <p:spPr>
          <a:xfrm>
            <a:off x="3240" y="6175440"/>
            <a:ext cx="780840" cy="657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4"/>
          <p:cNvSpPr/>
          <p:nvPr/>
        </p:nvSpPr>
        <p:spPr>
          <a:xfrm>
            <a:off x="549360" y="6404040"/>
            <a:ext cx="38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c68"/>
                </a:solidFill>
                <a:latin typeface="Arial"/>
              </a:rPr>
              <a:t>EU Enlarge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280" y="418680"/>
            <a:ext cx="7696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c68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c6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92360"/>
            <a:ext cx="7718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c68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17" descr="dreapta_1000x440"/>
          <p:cNvPicPr/>
          <p:nvPr/>
        </p:nvPicPr>
        <p:blipFill>
          <a:blip r:embed="rId1"/>
          <a:stretch/>
        </p:blipFill>
        <p:spPr>
          <a:xfrm>
            <a:off x="-9360" y="1162080"/>
            <a:ext cx="9153360" cy="459900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13"/>
          <p:cNvSpPr/>
          <p:nvPr/>
        </p:nvSpPr>
        <p:spPr>
          <a:xfrm>
            <a:off x="57240" y="1638360"/>
            <a:ext cx="5162400" cy="33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Sastanak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orum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a za koordinaciju donatora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prosinac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2015</a:t>
            </a:r>
            <a:r>
              <a:rPr b="1" lang="bs-BA" sz="2800" spc="-1" strike="noStrike">
                <a:solidFill>
                  <a:srgbClr val="ffffff"/>
                </a:solidFill>
                <a:latin typeface="Arial"/>
              </a:rPr>
              <a:t>. god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POTPOR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U </a:t>
            </a:r>
            <a:r>
              <a:rPr b="1" lang="bs-BA" sz="1800" spc="-1" strike="noStrike">
                <a:solidFill>
                  <a:srgbClr val="ffffff"/>
                </a:solidFill>
                <a:latin typeface="Arial"/>
              </a:rPr>
              <a:t>ZA OPORAVAK OD POPLAVA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943440" y="5810400"/>
            <a:ext cx="505764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Massimo Mina</a:t>
            </a:r>
            <a:br>
              <a:rPr sz="1400"/>
            </a:b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Šef Pododjela 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EU D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legacija u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B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osni 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H</a:t>
            </a:r>
            <a:r>
              <a:rPr b="1" lang="bs-BA" sz="1400" spc="-1" strike="noStrike">
                <a:solidFill>
                  <a:srgbClr val="003c68"/>
                </a:solidFill>
                <a:latin typeface="Arial"/>
              </a:rPr>
              <a:t>ercegovini</a:t>
            </a:r>
            <a:r>
              <a:rPr b="1" lang="en-GB" sz="1400" spc="-1" strike="noStrike">
                <a:solidFill>
                  <a:srgbClr val="003c68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019240" y="0"/>
            <a:ext cx="712476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on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konferencij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risel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pan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20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. god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EUR 8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rv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Program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EU za oporavak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plementiran o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UNDP – EUR 42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Drugi pake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sebne mjere za oporavak od poplav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rizikom od poplava 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"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uključuju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alocirana z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iH  – EUR 41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Sredstva namijenjana  većem broju zemal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– EUR 24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-152280" y="2037960"/>
            <a:ext cx="2155680" cy="26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4.640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kuć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9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jekata javne upra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119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razovnih ustan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konstruk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6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objekata zdravstvene skrb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ajvažnije općinske insfrastruktur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14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Vodoopskrba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nita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1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terven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rocjena rizika od poplava za stambeni sek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tpora za 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poljoprivredu za stvar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5.54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novih radnih mje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1495080"/>
            <a:ext cx="2152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EU za oporavak od poplava</a:t>
            </a: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za zaštitu od poplav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upravljanje vod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UR 1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ntervencije za stambeno zbrinjavanj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1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Jačanje konkurentnost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MSP-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9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neizravno upravljanje s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GiZ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-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C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vilnoj zašti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.5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Potpora Civilnoj zaštiti u podizanju svijest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zagovaranj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  <a:ea typeface="Arial"/>
              </a:rPr>
              <a:t>i pomoć za oporavak područja pogođenih poplav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, EUR 2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947520"/>
            <a:ext cx="2254320" cy="31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u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</a:t>
            </a: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egional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bnova i unapređe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nfrastrukture za zaštit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od poplava u slivu rijek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ave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H 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EUR 20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vencij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ipremljeno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 odgovor n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plave 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Zapadnom Balkanu i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rsko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Lot 2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ECHO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 upravlja projekto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, EUR 4 mi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osebne mjere EU za oporavak od poplava – u više zemalja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eć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poziv za dostavljanje ponu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ogram prekogranične suradnj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H – S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rbij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Sredstva alocirana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2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2013</a:t>
            </a: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. godi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0" lang="bs-BA" sz="1800" spc="-1" strike="noStrike">
                <a:solidFill>
                  <a:srgbClr val="ffffff"/>
                </a:solidFill>
                <a:latin typeface="Arial"/>
              </a:rPr>
              <a:t>Ukupn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UR 3.6 m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1428840"/>
            <a:ext cx="2238480" cy="24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Program prekogranične suradnje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iH - S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rbija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2254320" y="0"/>
            <a:ext cx="6889680" cy="6858000"/>
          </a:xfrm>
          <a:prstGeom prst="rect">
            <a:avLst/>
          </a:prstGeom>
          <a:solidFill>
            <a:srgbClr val="003c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algn="ctr">
              <a:lnSpc>
                <a:spcPct val="125000"/>
              </a:lnSpc>
              <a:spcAft>
                <a:spcPts val="1001"/>
              </a:spcAft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bs-BA" sz="3200" spc="-1" strike="noStrike">
                <a:solidFill>
                  <a:srgbClr val="ffffff"/>
                </a:solidFill>
                <a:latin typeface="Arial"/>
                <a:ea typeface="Arial"/>
              </a:rPr>
              <a:t>HVALA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0" y="1781280"/>
            <a:ext cx="2238480" cy="24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1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Sredstva EU obećana za oporavak od poplava za </a:t>
            </a: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B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osnu i</a:t>
            </a:r>
            <a:br>
              <a:rPr sz="1800"/>
            </a:br>
            <a:r>
              <a:rPr b="1" i="1" lang="en-US" sz="1800" spc="-1" strike="noStrike">
                <a:solidFill>
                  <a:srgbClr val="003c68"/>
                </a:solidFill>
                <a:latin typeface="Arial"/>
              </a:rPr>
              <a:t>H</a:t>
            </a:r>
            <a:r>
              <a:rPr b="1" i="1" lang="bs-BA" sz="1800" spc="-1" strike="noStrike">
                <a:solidFill>
                  <a:srgbClr val="003c68"/>
                </a:solidFill>
                <a:latin typeface="Arial"/>
              </a:rPr>
              <a:t>ercegovinu</a:t>
            </a:r>
            <a:br>
              <a:rPr sz="1800"/>
            </a:br>
            <a:endParaRPr b="0" lang="en-US" sz="1800" spc="-1" strike="noStrike">
              <a:solidFill>
                <a:srgbClr val="003c68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4:29:17Z</dcterms:created>
  <dc:creator>kurfuerst</dc:creator>
  <dc:description/>
  <dc:language>en-US</dc:language>
  <cp:lastModifiedBy>operater</cp:lastModifiedBy>
  <dcterms:modified xsi:type="dcterms:W3CDTF">2015-12-10T09:16:50Z</dcterms:modified>
  <cp:revision>885</cp:revision>
  <dc:subject/>
  <dc:title>Folie 1</dc:title>
</cp:coreProperties>
</file>